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144-5EC5-4EDD-A3F3-930C41A0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4147-68CF-4223-81DA-EC5F38B0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796-2004-4973-942A-E98C0F3AD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A68-ADBE-4C11-9043-1143926E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791F-0FFE-42E5-8323-38D00A7A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BB1D-F202-4C1D-9FD8-1B51889A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4A7-A6B2-4D10-BBA7-D8302E29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8D0-D7C5-4F02-93EB-F744E37D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C9C0-9D3C-4F39-9D52-B989DC58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EB3-C292-4173-B8AA-DFE42A99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CEE-67F4-41F5-9A15-AB780541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7456-B0C0-4DDA-9AF0-668F4CAA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DA0B-90A0-4C40-B2A5-3B5F88C1A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9600" y="838080"/>
            <a:ext cx="6548400" cy="7848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057400" y="3505320"/>
            <a:ext cx="2666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ff82a6"/>
                  </a:solidFill>
                  <a:prstDash val="lgDash"/>
                  <a:miter/>
                </a:ln>
                <a:solidFill>
                  <a:srgbClr val="bf80e3"/>
                </a:solidFill>
                <a:effectLst>
                  <a:outerShdw dist="36147" dir="2700000" blurRad="0" rotWithShape="0">
                    <a:srgbClr val="c0c0c0"/>
                  </a:outerShdw>
                </a:effectLst>
                <a:latin typeface="Arial"/>
              </a:rPr>
              <a:t>immigration</a:t>
            </a:r>
            <a:endParaRPr b="0" i="1" lang="en-US" sz="4400" spc="1" strike="noStrike">
              <a:ln w="9360">
                <a:solidFill>
                  <a:srgbClr val="ff82a6"/>
                </a:solidFill>
                <a:prstDash val="lgDash"/>
                <a:miter/>
              </a:ln>
              <a:solidFill>
                <a:srgbClr val="bf80e3"/>
              </a:solidFill>
              <a:effectLst>
                <a:outerShdw dist="36147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666880"/>
            <a:ext cx="3353040" cy="3276720"/>
          </a:xfrm>
          <a:prstGeom prst="noSmoking">
            <a:avLst>
              <a:gd name="adj" fmla="val 10939"/>
            </a:avLst>
          </a:prstGeom>
          <a:solidFill>
            <a:srgbClr val="00ff00">
              <a:alpha val="23000"/>
            </a:srgbClr>
          </a:solidFill>
          <a:ln w="3240">
            <a:solidFill>
              <a:srgbClr val="ff079f"/>
            </a:solidFill>
            <a:miter/>
          </a:ln>
          <a:effectLst>
            <a:outerShdw dist="38032" dir="7846666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3:47:42Z</dcterms:created>
  <dc:creator>nw sd</dc:creator>
  <dc:description/>
  <dc:language>en-US</dc:language>
  <cp:lastModifiedBy>PA Department of Education</cp:lastModifiedBy>
  <cp:lastPrinted>2009-02-03T18:26:45Z</cp:lastPrinted>
  <dcterms:modified xsi:type="dcterms:W3CDTF">2009-02-03T18:29:18Z</dcterms:modified>
  <cp:revision>5</cp:revision>
  <dc:subject/>
  <dc:title>PowerPoint Presentation</dc:title>
</cp:coreProperties>
</file>